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5A57-89EF-4C63-BE9B-1433AEE66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9840-1AB3-444B-B1E3-A21F7396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3A1E-4DCF-4505-B149-98A06CA33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627A-751D-4DBA-B101-D9CDDA8D9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FC58-BA3A-445D-93A3-37818D1C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754A-ABDF-492B-B274-3E325CD0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89F5-114B-49B8-BB5D-D6F89634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68C6-108D-4235-BDD7-49BC4945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B3D5-8FCB-4EBB-ABBE-3B048EFF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F206-D275-48CB-81CE-F8145912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C9E6-5E56-4D1F-AFCA-B94F9242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74C7-5F86-4AD5-9B6B-7FD24DFB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12DD-6120-489D-BED4-9B7074F04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1517760" y="378000"/>
            <a:ext cx="6419880" cy="1609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You have $10.00.  Which of the following would you like to bu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VD…$9.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g of chips….$1.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IG GULP….$1.6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Lil’ Wayne CD…$9.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icken Box…$5.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e the money for something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were the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sts (cons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benefits (pros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his deci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lebron-james"/>
          <p:cNvPicPr/>
          <p:nvPr/>
        </p:nvPicPr>
        <p:blipFill>
          <a:blip r:embed="rId1"/>
          <a:stretch/>
        </p:blipFill>
        <p:spPr>
          <a:xfrm>
            <a:off x="2819520" y="1676520"/>
            <a:ext cx="353376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Class Feedback:</a:t>
            </a:r>
            <a:br>
              <a:rPr sz="36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bron’s Decision to go to Miami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1600200"/>
          <a:ext cx="4038480" cy="48006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27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s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5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4648320" y="1600200"/>
          <a:ext cx="4038480" cy="48006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27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efits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292989"/>
                      </a:solidFill>
                    </a:lnL>
                    <a:lnR w="4320">
                      <a:solidFill>
                        <a:srgbClr val="292989"/>
                      </a:solidFill>
                    </a:lnR>
                    <a:lnT w="4320">
                      <a:solidFill>
                        <a:srgbClr val="292989"/>
                      </a:solidFill>
                    </a:lnT>
                    <a:lnB w="4320">
                      <a:solidFill>
                        <a:srgbClr val="292989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35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292989"/>
                      </a:solidFill>
                    </a:lnL>
                    <a:lnR w="4320">
                      <a:solidFill>
                        <a:srgbClr val="292989"/>
                      </a:solidFill>
                    </a:lnR>
                    <a:lnT w="4320">
                      <a:solidFill>
                        <a:srgbClr val="292989"/>
                      </a:solidFill>
                    </a:lnT>
                    <a:lnB w="4320">
                      <a:solidFill>
                        <a:srgbClr val="29298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 prepare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book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ple in the Graphic Orga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r pen ready to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57440" y="2743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Scarc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360" y="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resources (including money) are limited.  When the supply is smaller than the demand, so there is not enough to go arou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only have $3.00.  My spending money is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scar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5791320" y="2286000"/>
            <a:ext cx="281124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Opportunity C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ing to do one thing, costs you the opportunity to d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’Malley chose to spend money on education rather than trash removal from the Chesapeake Bay.  The opportunity cost i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ean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457200" y="3846600"/>
            <a:ext cx="784872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38480" y="2743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Budg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723920" y="1600200"/>
            <a:ext cx="39625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ciding when, how, and how much of a resource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762120" y="0"/>
            <a:ext cx="3573360" cy="69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riorit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599840"/>
            <a:ext cx="4800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put things in order of impor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5570640" y="0"/>
            <a:ext cx="3573360" cy="690228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457200" y="4114800"/>
            <a:ext cx="4724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was the federal government’s top priority in 2009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scarcity and opportunity cost influence government decis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Macintosh HD:Users:Moots:Desktop:American Government 2010-2011:Unit 1:1.15 Scarcity and Opportunity Cost:Canton-Residents-Protest-Red-Line-Plans[www.savevid.com].mov" descr="/Users/Moots/Desktop/American Government 2010-2011/Unit 1/1.15 Scarcity and Opportunity Cost/Canton-Residents-Protest-Red-Line-Plans[www.savevid.com].mov"/>
          <p:cNvPicPr/>
          <p:nvPr/>
        </p:nvPicPr>
        <p:blipFill>
          <a:blip r:embed="rId1"/>
          <a:stretch/>
        </p:blipFill>
        <p:spPr>
          <a:xfrm>
            <a:off x="2365200" y="2057400"/>
            <a:ext cx="571212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12193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bron’s Dec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http://www.waitingfornextyear.com/wp-content/uploads/2010/07/the-Decision-LeBron-James-ESPN.png"/>
          <p:cNvPicPr/>
          <p:nvPr/>
        </p:nvPicPr>
        <p:blipFill>
          <a:blip r:embed="rId1"/>
          <a:stretch/>
        </p:blipFill>
        <p:spPr>
          <a:xfrm>
            <a:off x="609480" y="1981080"/>
            <a:ext cx="79678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Decision Video Cl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Macintosh HD:Users:Moots:Desktop:American Government 2010-2011:Unit 1:1.15 Scarcity and Opportunity Cost:LeBron-James-Makes-His-Decision--Miami[www.savevid.com].mov" descr="/Users/Moots/Desktop/American Government 2010-2011/Unit 1/1.15 Scarcity and Opportunity Cost/LeBron-James-Makes-His-Decision--Miami[www.savevid.com].mov"/>
          <p:cNvPicPr/>
          <p:nvPr/>
        </p:nvPicPr>
        <p:blipFill>
          <a:blip r:embed="rId1"/>
          <a:stretch/>
        </p:blipFill>
        <p:spPr>
          <a:xfrm>
            <a:off x="1066680" y="1246320"/>
            <a:ext cx="6858000" cy="56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3:26:21Z</dcterms:created>
  <dc:creator>SSullivan</dc:creator>
  <dc:description/>
  <dc:language>en-US</dc:language>
  <cp:lastModifiedBy>Molly Zeins</cp:lastModifiedBy>
  <dcterms:modified xsi:type="dcterms:W3CDTF">2010-10-18T21:09:41Z</dcterms:modified>
  <cp:revision>4</cp:revision>
  <dc:subject/>
  <dc:title>Sullivan’s Café </dc:title>
</cp:coreProperties>
</file>